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4A2-27EF-471E-A0B5-4B67C38E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430560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960-33D5-4471-BBF0-A70C34B6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1952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8498-F1CA-4F7C-A227-BC625079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88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8140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88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8140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64E-FD19-4143-9406-EEAD4ABB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85D6-F0C2-458F-9682-3731F333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24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56C9-ACD7-42C0-9170-7707C9FD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24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BA57-89CB-46C8-8141-14DFA7ED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6A53-DD2E-4CAA-BD80-D5E81A66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4435-F6AC-4E89-A23F-DC6F091B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2400" cy="61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6A9C-0F6F-437E-B6F3-1A1B8C8F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2CA8-81B3-43C0-83C1-9F5F05D0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24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D81-0281-4ADC-9E02-D2905CCD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1952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DB6E-46FE-4E59-A197-D78D6779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F00E-FDED-44D6-B7ED-03A62CB0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360" y="430560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C2AC-3480-44E5-8535-C186A8BB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1952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08AA-910A-4B0A-A443-50C1EADB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088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8140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36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088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8140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0F79-02EC-4527-B8BF-88B87919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B082D-E7C8-4DF4-B356-D2EAB964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24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788F6-F4AC-4FA9-93B6-F64AC9FF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24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ACC9D-DB96-4518-B9CA-27F0C6D9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A4818-7957-44A7-8EDF-96B06F1D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7D411-F5C7-4784-9068-EDCA9A41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24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A1E-0928-4ADB-BBDF-1FB059B4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2400" cy="61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58680-F9F2-49F3-B5BF-0C833BEE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3072E-5282-405A-8E1F-CB2054F6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1952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7F6F7-E166-48DE-8033-297E7E0A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1BAB-B6B4-44F2-B64C-B91F60EC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60360" y="430560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E43D3-5BEA-4926-A4B4-9CA4176B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1952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8D2E2-AA87-43A2-93FC-F65AC26A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7088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8140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6036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7088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88140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9C411-97C1-4698-BBF6-ED5CFC06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F5F-D83D-4598-9903-7FE7538B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654-1C41-474A-9451-9196AF77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2400" cy="61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ECE-F711-4ADD-84B9-99EB7374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96F-B177-4506-ABA5-62FA3A48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1952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F29-9D0E-496A-A762-CE1F211A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1E0-FB60-4BC9-B07B-331CA6B3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C9A7D-BC8A-486F-8242-47169E9D4A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20444-FC92-4378-9C96-49AA0349E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24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71280" y="6743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699000" y="6743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360" y="6743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CD271-DCA9-4413-9286-4DE0154D0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71640" y="662040"/>
            <a:ext cx="8675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ffluent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Why the suburb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Escape the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Better life for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The 'American Dream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Afford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114800" y="3886200"/>
            <a:ext cx="54738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Baby Bo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40575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1945 to 1961, the population doub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More than 65 mil children born in the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t it's peak, a child bor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7 se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Returning veter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Marriage age decr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Wanting bigger fami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Great ec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Advanced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257800" y="2185920"/>
            <a:ext cx="4572000" cy="51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. Changing Workp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hite collar jobs grow; out number blu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collar jo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Multinational Corpo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he rise of franch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hain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Organization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ttacked conformity in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 Ten Franchises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4057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Hampton Hot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AMP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McDona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7-Ele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Superc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20960" y="2128680"/>
            <a:ext cx="405756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Days I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Vanguard Cleaning     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Servp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 Sub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 Denny'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Consumer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Buying material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From “needed” goods to recreational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743200" y="3462480"/>
            <a:ext cx="5257800" cy="36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Electronic Adv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7988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Radios made sma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Computer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mili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proces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siness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92520" y="2128680"/>
            <a:ext cx="407988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735440" y="2941560"/>
            <a:ext cx="51055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. Medical Adv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4057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Radiation and chemotherapy for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CPR and mechanical heart val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New blood tests and antibiotics end fear of TB (tuberculo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Jonas S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Creates the poli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vac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4343400" cy="518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705960"/>
            <a:ext cx="86738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The students will be able to explain cause and effects of the baby b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The students will be able to explain how       the workplace changed during the 195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he students will be able to explain the         changes in media in the 195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. American Abund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7988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Average income trip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Standard of living rose drama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Americans had a disposable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Advertising industry began to 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92520" y="2128680"/>
            <a:ext cx="407988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1953 Rinso Laundry Soap #004492"/>
          <p:cNvPicPr/>
          <p:nvPr/>
        </p:nvPicPr>
        <p:blipFill>
          <a:blip r:embed="rId2"/>
          <a:stretch/>
        </p:blipFill>
        <p:spPr>
          <a:xfrm>
            <a:off x="5573880" y="1722600"/>
            <a:ext cx="3809880" cy="51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Suburb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2057040"/>
            <a:ext cx="40575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Levittown, New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arliest mas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subu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85% of house construction was for the subur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20960" y="2128320"/>
            <a:ext cx="4057560" cy="4170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257800" y="1954080"/>
            <a:ext cx="4572000" cy="467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war Kitch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60360" y="2128320"/>
            <a:ext cx="8315280" cy="4170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371600" y="205740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705960"/>
            <a:ext cx="86756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twar Kitch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60360" y="2128320"/>
            <a:ext cx="8315280" cy="4170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600200" y="160020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668988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705960"/>
            <a:ext cx="86756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ks to the number of appliances in our house, the girls will have over 3 hours to kill every afternoon.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. Levi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260360" y="2128320"/>
            <a:ext cx="8315280" cy="4170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143000" y="18288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23:21:20Z</dcterms:created>
  <dc:creator>Courtney Huro</dc:creator>
  <dc:description/>
  <dc:language>en-US</dc:language>
  <cp:lastModifiedBy>School District U46</cp:lastModifiedBy>
  <dcterms:modified xsi:type="dcterms:W3CDTF">2011-03-14T13:13:59Z</dcterms:modified>
  <cp:revision>4</cp:revision>
  <dc:subject/>
  <dc:title>Slide 1</dc:title>
</cp:coreProperties>
</file>